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239E-5063-481D-9503-7426824CC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library.thinkquest.org/C004535/aerobic_respiratio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3EA5-8A86-4BE9-8ADA-C902305E8480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7DCC-4F31-4B6E-8B77-EE04FC16FCC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ttp://www.emc.maricopa.edu/faculty/farabee/biobk/biobookglyc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5B5A-E27D-4989-AD54-E2CFFC7D160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7F8B-C286-473C-8977-DBE0BAC1DAA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mage from: http://primawarta.blogspot.com/2009_08_01_archive.htm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mitochondrial-disorder-information.com/what_is_mitochondria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schoolworkhelper.net/2011/02/cellular-respiration-glycolysis-pyruvate-kerbs-etc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F029-6BE5-4DEB-A8ED-F333482C853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5D17-021D-489F-ADE6-20928FE5690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36AF-66A5-46BE-A68C-FB2F2C7B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BDB-8E8C-4EEC-94BF-53A525A2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70E-5F86-4B39-B9AE-4C438A74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406-29AC-436B-AC87-465E2489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791-6A91-46E5-8516-08557638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19F-1FC5-4A09-8A76-0505E89E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7F3E-9633-447F-9001-B60FA9A9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957-FF95-41FA-A4E5-EA2E0926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AA5-C3F1-4920-9B5F-01932FFE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C78-B701-4D88-90DA-55510FFE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C2D-622F-451E-A8E4-96045F37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217-9BAE-4AE1-86D8-EB4F3811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2C78-711D-4852-8D65-5D865B427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krebs.html" TargetMode="External"/><Relationship Id="rId2" Type="http://schemas.openxmlformats.org/officeDocument/2006/relationships/hyperlink" Target="http://highered.mcgraw-hill.com/sites/0072507470/student_view0/chapter25/animation__how_the_krebs_cycle_works__quiz_1_.html" TargetMode="External"/><Relationship Id="rId3" Type="http://schemas.openxmlformats.org/officeDocument/2006/relationships/hyperlink" Target="http://highered.mcgraw-hill.com/sites/0072507470/student_view0/chapter25/animation__how_the_krebs_cycle_works__quiz_1_.html" TargetMode="External"/><Relationship Id="rId4" Type="http://schemas.openxmlformats.org/officeDocument/2006/relationships/hyperlink" Target="http://highered.mcgraw-hill.com/sites/0072507470/student_view0/chapter25/animation__how_the_krebs_cycle_works__quiz_1_.html" TargetMode="External"/><Relationship Id="rId5" Type="http://schemas.openxmlformats.org/officeDocument/2006/relationships/hyperlink" Target="http://highered.mcgraw-hill.com/sites/0072507470/student_view0/chapter25/animation__how_the_krebs_cycle_works__quiz_1_.html" TargetMode="External"/><Relationship Id="rId6" Type="http://schemas.openxmlformats.org/officeDocument/2006/relationships/hyperlink" Target="http://highered.mcgraw-hill.com/sites/0072507470/student_view0/chapter25/animation__how_the_krebs_cycle_works__quiz_1_.html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olcweb/cgi/pluginpop.cgi?it=swf::535::535::/sites/dl/free/0072437316/120071/bio11.swf::Electron%20Transport%20System%20and%20ATP%20Synthesi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 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itric Acid Cycle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718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Processes:</a:t>
            </a:r>
            <a:br>
              <a:rPr sz="4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carboxylation (Reactions 3 &amp; 4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ifferent reactions involve the removal of carbon a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240516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Processes:</a:t>
            </a:r>
            <a:br>
              <a:rPr sz="4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xidation (Reactions 3, 4, 6, 8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toms (with their associated electrons) are transferred to a coenzy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3 cases, NAD+ is reduced to 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 case, FAD is reduced to FAD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240516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Processes:</a:t>
            </a:r>
            <a:br>
              <a:rPr sz="4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ergy Production (Reaction 5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one of the reactions, ATP is generated by substrate-level phosphory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upled to a reaction which has a large amount of free energy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240516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xaloacetate is regenerated in the last st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ll 6 carbons from glucose have been oxidized to CO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ll of the energy from glucose is in the form of ATP, NADH and FADH</a:t>
            </a:r>
            <a:r>
              <a:rPr b="0" lang="en-US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Krebs Cycle Overall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 acetyl CoA + 6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FAD + 2ADP + 2 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6 NADH + 6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FAD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2 AT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3886200" y="32767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27040" y="1981080"/>
            <a:ext cx="6288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eaction review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ience.smith.edu/departments/Biology/Bio231/kreb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&amp; Quiz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/highered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cgraw-hil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com/sites/0072507470/student_view0/chapter25/animation__how_the_krebs_cycle_works__quiz_1_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Questions (p.18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Glycolysis, pyruvate oxidation, and the citric acid cycle produce only a small amount of ATP from the energy in a glucose molecule.  What form(s) is the rest of the harvestable energy that is converted to ATP in the electron transport chain and chemiosm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ADH and FADH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Questions (p.18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Which stages of aerobic cellular respiration occur in the mitochondria, and which stages do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pyruvate oxidation, citric acid cycle,   ETC occur in the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glycolysis occurs in the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to pyruv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whether oxygen is present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erob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iration) or not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aerob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18240" y="1981080"/>
            <a:ext cx="346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Questions (p.18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Write the overall chemical equation for each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ucose + 2 ADP + 2 P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+ 2 NAD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------&gt;  2 pyruvate + 2 ATP + 2 NADH + 2 H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Questions (p.18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Write the overall chemical equation for each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yruvat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 pyruvate  +  2 NAD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+  2 CoA -----&gt;      2 acetyl CoA + 2 NADH + 2 H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+ 2 CO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Questions (p.18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Write the overall chemical equation for each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etyl CoA + 3 NAD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+ FAD + ADP + P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-----&gt; 3 NADH + 3 H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+ FADH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+ ATP + CoA + 2 CO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 of ET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’re confused about the Electron Transport Chain, this animation might hel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ighered.mcgraw-hill.com/olcweb/cgi/pluginpop.cgi?it=swf::535::535::/sites/dl/free/0072437316/120071/bio11.swf::Electron%20Transport%20System%20and%20ATP%20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xygen is present, the pyruvate molecules are transported from the cytoplasm into the mitochondrial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2087640"/>
            <a:ext cx="380988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2880" y="1981080"/>
            <a:ext cx="751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enzyme-catalyzed chan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00"/>
                </a:solidFill>
                <a:uFillTx/>
                <a:latin typeface="Arial"/>
              </a:rPr>
              <a:t>decarboxylation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forming CO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as a by-produ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00"/>
                </a:solidFill>
                <a:uFillTx/>
                <a:latin typeface="Arial"/>
              </a:rPr>
              <a:t>oxidation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of the 2-carbon molecule, causing a reduction of NAD</a:t>
            </a:r>
            <a:r>
              <a:rPr b="0" lang="en-CA" sz="3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to NAD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000000"/>
                </a:solidFill>
                <a:uFillTx/>
                <a:latin typeface="Arial"/>
              </a:rPr>
              <a:t>attachment of coenzyme A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(a derivative of vitamin B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), forming acetyl-Co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yruvate Oxidation</a:t>
            </a:r>
            <a:br>
              <a:rPr sz="4400"/>
            </a:b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ourse1.winona.edu/kbates/Bio241/cellresp03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biology200.gsu.edu/houghton/2107%20'07/Figures/Chapter7/figure7.8.jpg"/>
          <p:cNvPicPr/>
          <p:nvPr/>
        </p:nvPicPr>
        <p:blipFill>
          <a:blip r:embed="rId1"/>
          <a:stretch/>
        </p:blipFill>
        <p:spPr>
          <a:xfrm>
            <a:off x="785880" y="1643040"/>
            <a:ext cx="73184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e Citric Aci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Also known as the Krebs Cy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tric Acid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8 enzyme-catalyzed re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occurs in the mitochondrial matri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aerobic proce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cyclic process: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xaloaceta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reactant of the first reaction and product of the last re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cetyl CoA (2C) reacts with oxaloacetate (4C) to produce citrate (6C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oA is relea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ttp://web.virginia.edu/Heidi/chapter20/Images/8883n20_05.jpg"/>
          <p:cNvPicPr/>
          <p:nvPr/>
        </p:nvPicPr>
        <p:blipFill>
          <a:blip r:embed="rId1"/>
          <a:stretch/>
        </p:blipFill>
        <p:spPr>
          <a:xfrm>
            <a:off x="966960" y="4114800"/>
            <a:ext cx="7210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5:17:26Z</dcterms:created>
  <dc:creator>rubina khan</dc:creator>
  <dc:description/>
  <dc:language>en-US</dc:language>
  <cp:lastModifiedBy>rubina khan</cp:lastModifiedBy>
  <dcterms:modified xsi:type="dcterms:W3CDTF">2012-03-23T10:24:10Z</dcterms:modified>
  <cp:revision>59</cp:revision>
  <dc:subject/>
  <dc:title>Aerobic Cellular Respiration</dc:title>
</cp:coreProperties>
</file>